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1587240" y="1006200"/>
            <a:ext cx="4593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1185480" y="4787640"/>
            <a:ext cx="5405400" cy="38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Absolute number and proportion of women and men combined with IFG (fasting glucose ≥6.1 mmol/l) and IGT (postload glucose ≥8.9 mmol/l) according to BMI in the Västerbotten Intervention Project, northern Swed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RR of overall cancer according to World Health Organization categories of fasing and postload glucose plasma levels (mmol/l) in women and men in the Västerbotten Intervention Project, northern Swed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4932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5920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394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4932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5920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7280" indent="-21600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39800" y="627120"/>
            <a:ext cx="860436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rospective Study of Hyperglycemia and Cancer Ri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39800" y="2259000"/>
            <a:ext cx="8604360" cy="30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by Pär Stattin, Ove Björ, Pietro Ferrari, Annekatrin Lukanova, Per Lenner, Bernt Lindahl, Göran Hallmans, and Rudolf Kaa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38360" y="5641920"/>
            <a:ext cx="860400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Diabetes C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Volume 30(3):561-56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February 27, 200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08000" y="728964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©2007 by American Diabetes Associ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8064360" y="6904080"/>
            <a:ext cx="1712880" cy="47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58920" y="420840"/>
            <a:ext cx="936288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bsolute number and proportion of women and men combined with IFG (fasting glucose ≥6.1 mmol/l) and IGT (postload glucose ≥8.9 mmol/l) according to BMI in the Västerbotten Intervention Project, northern Swed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8064360" y="6904080"/>
            <a:ext cx="1712880" cy="4744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1197000" y="1079640"/>
            <a:ext cx="7689960" cy="53942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197000" y="6583320"/>
            <a:ext cx="43196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är Stattin et al. Dia Care 2007;30:561-56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8000" y="728964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©2007 by American Diabetes Associ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420840"/>
            <a:ext cx="936288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RR of overall cancer according to World Health Organization categories of fasing and postload glucose plasma levels (mmol/l) in women and men in the Västerbotten Intervention Project, northern Swed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8064360" y="6904080"/>
            <a:ext cx="1712880" cy="4744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2813040" y="1079640"/>
            <a:ext cx="4459320" cy="53942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813040" y="6583320"/>
            <a:ext cx="43196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är Stattin et al. Dia Care 2007;30:561-56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08000" y="728964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©2007 by American Diabetes Associ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