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land-Altman plot for agreement between A1C determined by boronate affinity method and HPLC.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axis presents the mean of the two determinations and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axis the difference. The ■ represent the 68 participants with normal hemoglobin. The □ represent the 22 participants with variant h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ion of Abnormal Glucose Tolerance in Africans Is Improved by Combining A1C With Fasting Glucose: The Africans in America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ne E. Sumner, Caroline K. Thoreson, Michelle Y. O'Connor, Madia Ricks, Stephanie T. Chung, Marshall K. Tulloch-Reid, Jay N. Lozier, and David B. S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abetes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8(2):213-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2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and-Altman plot for agreement between A1C determined by boronate affinity method and HPLC. The x-axis presents the mean of the two determinations and the y-axis the differ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8520" y="1079640"/>
            <a:ext cx="74898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8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Sumner et al. Dia Care 2015;38:213-2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