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anhattan plot of 11,628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/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z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features comparing participants who developed incident T2D versus those who did not. The negative log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value was plotted against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/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z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features.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x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-axis represent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/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z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of the detected features, ordered in increasing value from 85 (left) to 1,800 (right). A total of seven metabolites significantly differed between the two groups at the threshold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q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= 0.05 (above the horizontal gray lin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Separation of study participants who developed incident T2D and those who did not during follow-up by sPLS-DA using a multimarker metabolite score comprising all seven metabolites showing significant associations with incident T2D listed in Table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vel Metabolic Markers for the Risk of Diabetes Development in American Ind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Jinying Zhao, Yun Zhu, Noorie Hyun, Donglin Zeng, Karan Uppal, ViLinh T. Tran, Tianwei Yu, Dean Jones, Jiang He, Elisa T. Lee, and Barbara V. How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iabetes 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8(2):220-2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anuary 22,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American Diabetes 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64360" y="6904080"/>
            <a:ext cx="1712880" cy="47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hattan plot of 11,628 m/z features comparing participants who developed incident T2D versus those who did no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064360" y="6904080"/>
            <a:ext cx="171288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2133720"/>
            <a:ext cx="8604360" cy="3286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ying Zhao et al. Dia Care 2015;38:220-2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American Diabetes 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paration of study participants who developed incident T2D and those who did not during follow-up by sPLS-DA using a multimarker metabolite score comprising all seven metabolites showing significant associations with incident T2D listed in Table 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064360" y="6904080"/>
            <a:ext cx="1712880" cy="47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97000" y="1079640"/>
            <a:ext cx="589284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970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inying Zhao et al. Dia Care 2015;38:220-2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American Diabetes 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