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low diagram describing the selection of study participants. Lighter colored boxes represent subgroups that are essential for understanding the study methodology but are not directly relevant to the present 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idence of Diabetes and Prediabetes and Predictors of Progression Among Asian Indians: 10-Year Follow-up of the Chennai Urban Rural Epidemiology Study (CURES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Ranjit Mohan Anjana, Coimbatore Subramanian Shanthi Rani, Mohan Deepa, Rajendra Pradeepa, Vasudevan Sudha, Haridas Divya Nair, Nagarajan Lakshmipriya, Sivasankaran Subhashini, Valsalakumari Sreekumarannair Binu, Ranjit Unnikrishnan, and Viswanathan Moh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iabetes C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8(8):1441-14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uly 23,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5 by American Diabetes Assoc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64360" y="6904080"/>
            <a:ext cx="1712880" cy="47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low diagram describing the selection of study participan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064360" y="6904080"/>
            <a:ext cx="1712880" cy="474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98680" y="1079640"/>
            <a:ext cx="708804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986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anjit Mohan Anjana et al. Dia Care 2015;38:1441-14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5 by American Diabetes Assoc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